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49A9-BBF3-4250-8CF0-37A0118F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9EDA-CAF9-43DD-819A-2ED78604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22F4-FB5F-474A-A711-27610D67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8A12-FC29-4F01-8CED-5F409FCD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C040-C8A1-4835-8031-B6C80426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A308-5741-49BC-98FD-9AC55CC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EC9E-2CE3-4FF3-881B-8B6AFFB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3CA0-C9E8-4787-9567-5C693FC6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CEB9-CA9B-4366-AF54-CEEEEB7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49A9-6AC1-4480-8273-946CF86E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68B-434F-4D3B-A113-27B2269B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244B-7C2B-4AD2-9C9D-BBD9D4BA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FD2F-2C19-478B-9656-F101F3CD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D20E-C5CA-4C39-83BC-B547E59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ABCD-B008-478E-899E-06AFDEE3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35F-70D7-4450-9DDA-7584B152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A74C-5886-4BCF-8ED6-B53226BF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B029-DA96-45AE-AB2D-DD41C5C7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97A9-C62C-457E-84DF-FB13AF4E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C0FF-A085-4F74-A2F6-89353BBA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5D83-4978-4A44-9C79-E1A2A3D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A6CC-17D9-46BE-B220-80CE7702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7CA6-170D-443C-9A9A-9EA716A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3D7D-F1ED-4E39-B5D3-44B14EE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072F-63ED-4B6E-8621-D546B8C4175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7058-E428-4773-B8E5-F27ECCDF039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472680"/>
            <a:ext cx="111315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2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пасителю Христ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традална ми душ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бъди прибежищ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нападне ме бед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е близо буря зл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развихрени стихи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изо Ти при мен ел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крилете Си ме скри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и ми оскъднос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допълваш, о, Хрис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Ходатай мой Си Т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порочни Агнец мил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ъм с грях обремен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и прав и чист, и свят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от зло съм опетн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и пълен с благода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412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ебе си погледна л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е тъмнота и мраз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прибежище Си Ти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ямам друг Спасител аз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дежда моя С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не стой далек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в сърцето ми влез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царувай там наве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6-04T06:29:28Z</dcterms:modified>
  <cp:revision>39</cp:revision>
  <dc:subject/>
  <dc:title>Slide 1</dc:title>
</cp:coreProperties>
</file>